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110-86AE-42EF-A98B-F29A7D77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7FA-A471-463C-B079-7B3CC3BC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7B0-3E31-4E64-8960-BE9A2C25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778-46FA-4082-820D-16A0DAB6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55E-EEDB-414F-A9FD-F2A209C4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3D9-07A1-4F1D-A5D1-D1B27774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829-E69D-43EE-A758-3555861F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9EA-7D48-4CE5-BB9F-12BDED9A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A37-E103-4C5C-B9C3-E5104774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D5F-EFD6-414A-9BC2-2419E44A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118-49D0-4A6D-8E8B-03F3D3F3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8EC-5BF0-4861-A916-726A3838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99BA-95B7-484A-BB83-0C612E205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34 V Synovi k nám Boh sám sa zn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ynovi k 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h sám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s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zní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ľudí má tak veľmi 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uverí a k nemu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jeho lásku ver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ie sa spolieh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žije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iem vždy dúfať sm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ičoho báť sa nemusí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rť ani hrob nezmaria di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náš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án slávne stvrdil svojím vzkriesení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Božia m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mŕtvych kries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budí nás v deň vzkrieseni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smírom n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zveno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z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z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vďačný chválospe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milosť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žije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iem vždy dúfať sm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ičoho báť sa nemusí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rť ani hrob nezmaria di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náš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án slávne stvrdil svojím vzkriesení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20:20:28Z</dcterms:modified>
  <cp:revision>23</cp:revision>
  <dc:subject/>
  <dc:title>Je veľký náš Pán, on slávy je Kráľ Nech do všetkých strán  spev vrúcnych znie chvál.</dc:title>
</cp:coreProperties>
</file>